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B97-5925-4057-B156-4A9EEF35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868D-756A-48E6-BEF7-E82E08EC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6B1-0D93-404D-A252-E49658004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768-65F8-4B1B-8DD7-9A7E5EC0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A11-9EC1-4A7E-9525-B9BF3C2A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0213-4160-429C-B956-75DE0ED6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FBC5-F5F8-4355-A087-AA32CDA9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6841-94DC-4C69-A4C7-5E66F867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FC7-3982-4A1E-BAD2-1D119EBB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31D-919F-46FB-A0E0-02A8A6F4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8CD-A71E-475E-9F1E-C45809D7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EF5-6DC2-4B80-A0C3-91BB4597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309-4CF5-4D0A-9F48-A9F9EF6B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Organized Labor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Organized Labor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problems that workers faced in the late 180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goals and strategies of different labor organiz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causes and effects of strik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715000" y="2286000"/>
            <a:ext cx="312408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ajor strike of railroad workers in 1877 resulted in the federal government sending in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troops to restore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8"/>
          <p:cNvSpPr/>
          <p:nvPr/>
        </p:nvSpPr>
        <p:spPr>
          <a:xfrm flipH="1" rot="5400000">
            <a:off x="990360" y="1142640"/>
            <a:ext cx="4114800" cy="5029200"/>
          </a:xfrm>
          <a:prstGeom prst="upArrowCallout">
            <a:avLst>
              <a:gd name="adj1" fmla="val 25002"/>
              <a:gd name="adj2" fmla="val 22338"/>
              <a:gd name="adj3" fmla="val 21643"/>
              <a:gd name="adj4" fmla="val 53908"/>
            </a:avLst>
          </a:prstGeom>
          <a:gradFill rotWithShape="0">
            <a:gsLst>
              <a:gs pos="0">
                <a:srgbClr val="cef8f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63504" dir="3183908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14400" y="1719360"/>
            <a:ext cx="2971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membership in unions grew in the 1870s, a wave of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confrontations between labor and manag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ocked the count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6"/>
          <p:cNvSpPr/>
          <p:nvPr/>
        </p:nvSpPr>
        <p:spPr>
          <a:xfrm>
            <a:off x="5999040" y="2544840"/>
            <a:ext cx="2592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1886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aymarket Ri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Americans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wary of labor un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20" descr="HSUS_ch13_s3_StrikeFight"/>
          <p:cNvPicPr/>
          <p:nvPr/>
        </p:nvPicPr>
        <p:blipFill>
          <a:blip r:embed="rId1"/>
          <a:stretch/>
        </p:blipFill>
        <p:spPr>
          <a:xfrm>
            <a:off x="590400" y="2362320"/>
            <a:ext cx="5286600" cy="3514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476280" y="1371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ross the nation, workers mounted demonstrations for more rights. One such protest in Chicago turned viol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2"/>
          <p:cNvSpPr/>
          <p:nvPr/>
        </p:nvSpPr>
        <p:spPr>
          <a:xfrm>
            <a:off x="952560" y="13716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et another conflict broke out with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mestead Strik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roops were called in to quell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fighting between workers and Carnegie Ste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9"/>
          <p:cNvSpPr/>
          <p:nvPr/>
        </p:nvSpPr>
        <p:spPr>
          <a:xfrm flipV="1" rot="5400000">
            <a:off x="4209840" y="26499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952560" y="335592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year later, the Pullman Palace Car Company laid off rail workers and cut w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952560" y="493704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touched of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ullman Strik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halted nationwide railroad traff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mail delive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24"/>
          <p:cNvSpPr/>
          <p:nvPr/>
        </p:nvSpPr>
        <p:spPr>
          <a:xfrm flipV="1" rot="5400000">
            <a:off x="4209840" y="43056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7"/>
          <p:cNvSpPr/>
          <p:nvPr/>
        </p:nvSpPr>
        <p:spPr>
          <a:xfrm>
            <a:off x="704880" y="1295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vernment ordered strike organizers,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ugene V. De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o end the strik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38080" y="5334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refused and was sent to jail.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Troops were called in to end the stri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24" descr="HSUS_ch13_s3_PullmanStrike"/>
          <p:cNvPicPr/>
          <p:nvPr/>
        </p:nvPicPr>
        <p:blipFill>
          <a:blip r:embed="rId1"/>
          <a:stretch/>
        </p:blipFill>
        <p:spPr>
          <a:xfrm>
            <a:off x="1319040" y="2209680"/>
            <a:ext cx="65059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0"/>
          <p:cNvSpPr/>
          <p:nvPr/>
        </p:nvSpPr>
        <p:spPr>
          <a:xfrm>
            <a:off x="1219320" y="1447920"/>
            <a:ext cx="670536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c5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600200"/>
          <a:ext cx="6096240" cy="4267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s on the Labor Mov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rs successfully appealed for 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court orders against unio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ct disputes and 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strikes continued to occu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s American industry grew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abor movement spli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to different factions. Debs helped organize the American Socialist Party and the IWW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676520"/>
            <a:ext cx="76197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weatshop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, hot, dark, and dirty workho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any tow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mmunities near workplaces where housing was owned by the business and rented out to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llective bargain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gotiating as a group for higher wages or better working cond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conomic and political philosophy that favors public, instead of private, control of property and in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827000"/>
            <a:ext cx="769608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Knights of Lab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labor union that included workers of any trade, skilled or unsk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rence V. Powderl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leader of the Knights of Labor beginning in 1881 who encouraged boycotts and negotiations with 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amuel Gomper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oor English immigrant wh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ed the AFL, a skilled workers union, in 18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F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n Federation of Labor, a loose organization of skilled workers from many unions devoted to specific crafts or t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aymarket Rio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labor protest in Chicago in 1886 that ended in dozens of deaths when someone threw a bo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mestead Strik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1892 Pennsylvania steelworkers’ strike that resulted in violence between company police and stri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ugene V. Deb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der of the American Railway Union who eventually became a Socia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ullman Strik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ationwide strike in 1894 of rail workers that halted railroads and mail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1297080" y="16002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the rise of labor unions shape relations among workers, big business, and government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297080" y="2971800"/>
            <a:ext cx="7008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ooming American economy relied on workers, who began to rebel agains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 pay and unsafe working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uggles between business owners and workers intensif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6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29"/>
          <p:cNvSpPr/>
          <p:nvPr/>
        </p:nvSpPr>
        <p:spPr>
          <a:xfrm>
            <a:off x="1143000" y="15238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strial workers faced hard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0"/>
          <p:cNvSpPr/>
          <p:nvPr/>
        </p:nvSpPr>
        <p:spPr>
          <a:xfrm>
            <a:off x="1143000" y="2209680"/>
            <a:ext cx="6553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tory owners employed people who w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ork for low wag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ny of these people were immigr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often labored in dangerou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weatsh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orers often had to live i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any tow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buy goods at high interest at company s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9"/>
          <p:cNvSpPr/>
          <p:nvPr/>
        </p:nvSpPr>
        <p:spPr>
          <a:xfrm>
            <a:off x="5410080" y="14479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bor unions form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5410080" y="2362320"/>
            <a:ext cx="3353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rs tri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llective bargai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gain more power against employers. One form was the strike, in which workers stop work until their demands are me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762120" y="5424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ild laborers in 189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7" descr=""/>
          <p:cNvPicPr/>
          <p:nvPr/>
        </p:nvPicPr>
        <p:blipFill>
          <a:blip r:embed="rId1"/>
          <a:stretch/>
        </p:blipFill>
        <p:spPr>
          <a:xfrm>
            <a:off x="762120" y="1461960"/>
            <a:ext cx="4492440" cy="39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8"/>
          <p:cNvSpPr/>
          <p:nvPr/>
        </p:nvSpPr>
        <p:spPr>
          <a:xfrm>
            <a:off x="609480" y="1600200"/>
            <a:ext cx="8001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736640" y="1066680"/>
            <a:ext cx="59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bor Unions of the Late 1800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828800"/>
          <a:ext cx="7543800" cy="4191120"/>
        </p:xfrm>
        <a:graphic>
          <a:graphicData uri="http://schemas.openxmlformats.org/drawingml/2006/table">
            <a:tbl>
              <a:tblPr/>
              <a:tblGrid>
                <a:gridCol w="3048120"/>
                <a:gridCol w="449568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 U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stry and Ac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nights of Lab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all worker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om any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oted to broad social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merican Federation of Labor (AF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skilled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ed on specific worker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Railway Union (ARU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rai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ucted the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ullman Stri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f 1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9"/>
          <p:cNvSpPr/>
          <p:nvPr/>
        </p:nvSpPr>
        <p:spPr>
          <a:xfrm>
            <a:off x="990720" y="175572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ovement call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read through Europe in the 183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eld tha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ealth should be distributed equ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very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2362320" y="4359240"/>
            <a:ext cx="6248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st Americans rejected socialism, but some labor activists borrowed ideas from it to support social refor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1" descr="HSUS_s3_ch13_US-FlagWavy"/>
          <p:cNvPicPr/>
          <p:nvPr/>
        </p:nvPicPr>
        <p:blipFill>
          <a:blip r:embed="rId1"/>
          <a:stretch/>
        </p:blipFill>
        <p:spPr>
          <a:xfrm>
            <a:off x="914400" y="44197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7:37Z</dcterms:modified>
  <cp:revision>15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